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2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36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55.wmf" ContentType="image/x-wmf"/>
  <Override PartName="/ppt/media/image3.png" ContentType="image/png"/>
  <Override PartName="/ppt/media/image15.png" ContentType="image/png"/>
  <Override PartName="/ppt/media/image18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4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24.jpeg" ContentType="image/jpeg"/>
  <Override PartName="/ppt/media/image61.png" ContentType="image/png"/>
  <Override PartName="/ppt/media/image25.wmf" ContentType="image/x-wmf"/>
  <Override PartName="/ppt/media/image64.png" ContentType="image/png"/>
  <Override PartName="/ppt/media/image27.png" ContentType="image/png"/>
  <Override PartName="/ppt/media/image30.wmf" ContentType="image/x-wmf"/>
  <Override PartName="/ppt/media/image26.wmf" ContentType="image/x-wmf"/>
  <Override PartName="/ppt/media/image28.wmf" ContentType="image/x-wmf"/>
  <Override PartName="/ppt/media/image23.wmf" ContentType="image/x-wmf"/>
  <Override PartName="/ppt/media/image51.jpeg" ContentType="image/jpeg"/>
  <Override PartName="/ppt/media/image58.png" ContentType="image/png"/>
  <Override PartName="/ppt/media/image60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29.wmf" ContentType="image/x-wmf"/>
  <Override PartName="/ppt/media/image11.png" ContentType="image/png"/>
  <Override PartName="/ppt/media/image4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34.png" ContentType="image/png"/>
  <Override PartName="/ppt/media/image42.png" ContentType="image/png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198-9C28-453C-9AB2-252BE13F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717-2078-4827-9C2D-6B047B3B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573-0AB1-4916-B87F-D33EADC7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657-2E86-49AF-BA86-A7A77C14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89D-28E9-4607-95A0-E61871F2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C3A9-8BA5-41AE-B7A7-E1A178CA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76A-2342-4A3D-ABE1-AA7E6399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CF2-BD98-47A7-8F35-15F9D20A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60D4-EB85-448F-8C84-C86106EF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78C-79D2-4DD7-A1CB-7FD53E5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ED4-DBC9-4D07-B21F-978C27EA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D1C-C02A-4CB8-A858-57705771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23F2-4CC6-4D9A-B7DB-4F8BB8B90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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 US Neutrino Programme</a:t>
            </a:r>
            <a:br>
              <a:rPr sz="36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lie Camil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N, 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R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PNO Orsay, 4 octobre 20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5400" y="2362320"/>
            <a:ext cx="2298600" cy="39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867280" cy="3656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094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ctive detector consisting of alternating plan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and vertical 15.7m long plastic PVC tubes fil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liquid scintillator (BC 517L):  Total mas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5k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be viewed by a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lo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LS fibre  both ends of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ad by a  single avalanche photodiode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P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" y="5105160"/>
            <a:ext cx="838080" cy="6094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400" y="54864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7440" y="91440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60 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200400"/>
            <a:ext cx="127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iO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VC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00800" y="2971440"/>
            <a:ext cx="76212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9436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ubes are wide enough (6 cm) to allow large bending radius and no damage to fibre </a:t>
            </a:r>
            <a:r>
              <a:rPr b="0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loop is a “perfect” mi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valanche Photodi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6720" y="1600200"/>
            <a:ext cx="31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amamatsu 32 AP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114800"/>
            <a:ext cx="346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ixel size 1.8mm x 1.05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Fibre 0.8mm di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voltage 400 Vo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ain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temperature: -15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reduces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143000"/>
            <a:ext cx="0" cy="53352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080" y="6858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6386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sic for APD’s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5 p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2050920"/>
            <a:ext cx="4343400" cy="2365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361960" y="1981080"/>
            <a:ext cx="759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057040" y="3581280"/>
            <a:ext cx="2286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02080" cy="405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886200" y="3733920"/>
            <a:ext cx="1828800" cy="1828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 APD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e quantum efficiency of APD’s is much higher than a pm’s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~80%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Especially at the higher wave leng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surviving after traversing the f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876560" y="1371600"/>
            <a:ext cx="1981080" cy="20574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bre/Scintillator cosmic ra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665960" cy="304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448080" cy="3538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0280" y="1386000"/>
            <a:ext cx="501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erted looped 15.7m long fibre in 60 cm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VC tube filled with liquid scintil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osed to cosmic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320" y="4952880"/>
            <a:ext cx="255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asured 20 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 mip signal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far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00800" y="2209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9080" y="617220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sic for APD’s: 2.5 pe noise  </a:t>
            </a:r>
            <a:r>
              <a:rPr b="1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/N ~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7920" y="451008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0    20    40    60    80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lf Block Prototype Being Built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 Argo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14400" y="1843200"/>
            <a:ext cx="55152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516888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267080" cy="405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4640" y="1932120"/>
            <a:ext cx="37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urface detector with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3m overbu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o reduce the em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f cosmic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29000" y="1523880"/>
            <a:ext cx="2133720" cy="9907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5331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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6025" t="9029" r="6837" b="3765"/>
          <a:stretch/>
        </p:blipFill>
        <p:spPr>
          <a:xfrm>
            <a:off x="0" y="463680"/>
            <a:ext cx="5486400" cy="398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9285" t="8333" r="15001" b="1191"/>
          <a:stretch/>
        </p:blipFill>
        <p:spPr>
          <a:xfrm>
            <a:off x="4114800" y="3166920"/>
            <a:ext cx="5029200" cy="3605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36520" y="94932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7360" y="365760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040" y="4572000"/>
            <a:ext cx="37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 shower: many hits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uons do not: just one hit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4038120"/>
            <a:ext cx="609480" cy="8384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5486400"/>
            <a:ext cx="1295280" cy="457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867280"/>
            <a:ext cx="3353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utral Current background: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6412" t="9029" r="6154" b="3765"/>
          <a:stretch/>
        </p:blipFill>
        <p:spPr>
          <a:xfrm>
            <a:off x="1219320" y="1066680"/>
            <a:ext cx="6476760" cy="4692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594360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k like electrons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C, if two photons are not recogn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C background 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/NO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Neutrino beam: NU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228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406520" cy="2698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38280" y="2978280"/>
            <a:ext cx="6705720" cy="3678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7600" y="541008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horn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hange energ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09680" y="4952880"/>
            <a:ext cx="5335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3880" y="1905120"/>
            <a:ext cx="38124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FF-AXIS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49568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8600" y="4267080"/>
            <a:ext cx="43434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y Spectrum is narrow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pect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oose the off-axis angl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he mean energy of the b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oscillation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48320" y="609480"/>
            <a:ext cx="4582440" cy="1245960"/>
            <a:chOff x="4648320" y="609480"/>
            <a:chExt cx="4582440" cy="1245960"/>
          </a:xfrm>
        </p:grpSpPr>
        <p:sp>
          <p:nvSpPr>
            <p:cNvPr id="184" name=""/>
            <p:cNvSpPr/>
            <p:nvPr/>
          </p:nvSpPr>
          <p:spPr>
            <a:xfrm>
              <a:off x="5555520" y="1632600"/>
              <a:ext cx="565920" cy="222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4120" y="1688400"/>
              <a:ext cx="18828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28000" y="1688400"/>
              <a:ext cx="18900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1743840"/>
              <a:ext cx="419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4560" y="1717200"/>
              <a:ext cx="75600" cy="554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26520" y="968400"/>
              <a:ext cx="263880" cy="498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819400" y="1244880"/>
              <a:ext cx="2720520" cy="44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0880" y="1499400"/>
              <a:ext cx="13680" cy="246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0" y="0"/>
                  </a:moveTo>
                  <a:cubicBezTo>
                    <a:pt x="6" y="38"/>
                    <a:pt x="13" y="76"/>
                    <a:pt x="15" y="111"/>
                  </a:cubicBezTo>
                  <a:cubicBezTo>
                    <a:pt x="17" y="146"/>
                    <a:pt x="13" y="179"/>
                    <a:pt x="10" y="2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1760" y="1357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0640" y="1440720"/>
              <a:ext cx="58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21000" y="145260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Ho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57680" y="13611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Decay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3800" y="6094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64160" y="1743840"/>
              <a:ext cx="290520" cy="1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717800" cy="4724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066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cay pions give simi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ies at the det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3244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3716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495680"/>
            <a:ext cx="182880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n of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stand and what do we still need to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I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resent and futur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current user: MINOS. Present and expected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us and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utrino Bea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04880" y="3657600"/>
            <a:ext cx="178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3880" y="4800600"/>
            <a:ext cx="225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eam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~ 0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ajor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343480" cy="4883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3124080" y="3962520"/>
            <a:ext cx="2819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800240" y="4648320"/>
            <a:ext cx="1676520" cy="3808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1760" y="1981080"/>
            <a:ext cx="99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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5791320"/>
            <a:ext cx="3181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hav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easure thi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NOS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828800" y="1522440"/>
            <a:ext cx="6524640" cy="453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4400" y="6172200"/>
            <a:ext cx="807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y of atmospheric mass region  through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is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resul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640" y="5181480"/>
            <a:ext cx="25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Suppression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at 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638680" cy="3863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 flipV="1">
            <a:off x="1294920" y="3657240"/>
            <a:ext cx="304920" cy="1600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1520" y="83808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unoscil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47560" y="121932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86200" y="5181480"/>
            <a:ext cx="4952880" cy="11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400800" y="914400"/>
            <a:ext cx="2558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0" y="50292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781680" cy="475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75360" y="588168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tible with and comparable to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More precise than K2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1600" y="3290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286000"/>
            <a:ext cx="114300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5720" y="1981080"/>
            <a:ext cx="7432560" cy="4114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60640" y="472428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NOS bas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.4 x 10</a:t>
            </a:r>
            <a:r>
              <a:rPr b="1" lang="en-US" sz="2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pots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1160" y="5851440"/>
            <a:ext cx="294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mprovement by abou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actor of 3 in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419360" y="3581280"/>
            <a:ext cx="609480" cy="2362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roton Beam as of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629400" cy="4000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6934320" y="3124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905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8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p’s per spill               (2.2 se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590920"/>
            <a:ext cx="1447920" cy="2590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or a Fermilab year of   2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4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ots/ye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(Achieved 1.27 x10</a:t>
            </a:r>
            <a:r>
              <a:rPr b="1" lang="en-US" sz="1600" spc="-1" strike="noStrike" baseline="30000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1600" spc="-1" strike="noStrike" baseline="30000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in first turn-on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 baseline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4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/year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7640" y="28954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~28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0574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fter the collider shuts down (20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120" y="1233360"/>
            <a:ext cx="843804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antiproton production batches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downtime for preparing collider shot.  No time for antiproto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accumulator  to recycl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ransfer time of 12 booster batches to Main Injector (0.8 sec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tead transfer them to recycler during Main Injector cycle, and the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 one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RF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Upgrade of NUMI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 should bring the Main Injector to a 1MW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st: 30-50 M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ROTONS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.5 x 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protons on target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 gain of a factor of  &gt;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in numbers of protons deli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: Full shutdown to convert MI to 1 MW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: 44 weeks running at 400 to 700 kW (Partial (5kT)det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: 38 weeks running at 700kW to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3 and beyond: 44 weeks at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0360" y="2743200"/>
            <a:ext cx="370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egradation factors assum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 uptime: 8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to peak intensity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ptime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3248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unning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running as soon as 5kT instal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years to build up to full det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for 6 years from end of co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otal: 60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% electron shower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% muon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likelihood applied to events to separate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from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ield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fficienc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including fiducial in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sup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E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E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Figure of M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Signal / sqrt(#bkd) =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for 6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t f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events. (12 intrinsic bea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7 neutral cur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stical Power: why this is hard and we need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94320" y="2338560"/>
            <a:ext cx="3951360" cy="249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8040" y="2327400"/>
            <a:ext cx="3987720" cy="2517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836720" y="2825640"/>
            <a:ext cx="279360" cy="254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460840" y="2730600"/>
            <a:ext cx="279720" cy="35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71720" y="5035680"/>
            <a:ext cx="3731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142.1,  B=1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  71.8,  B=1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7960" y="505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4160" y="58500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39040" y="443880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160" y="443088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-family oscillation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126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160" y="1081080"/>
            <a:ext cx="21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ine  c = co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3581280"/>
            <a:ext cx="8778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P viol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A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oscillations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1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05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04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- 1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TMOSPHERIC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scillatio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18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1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44%   -2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link 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3</a:t>
            </a:r>
            <a:r>
              <a:rPr b="0" lang="en-US" sz="2800" spc="-1" strike="noStrike" baseline="30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t by a reactor experiment: CHOO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ensitivity to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38480" cy="3992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6095880" y="380880"/>
            <a:ext cx="1526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715000"/>
            <a:ext cx="8763120" cy="990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lations are much reduced by running BOTH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Discovery limit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tter than 0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for ALL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’s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and BOTH mass hierarch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78560" y="3124080"/>
            <a:ext cx="158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60.3 x 1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7880" y="2819520"/>
            <a:ext cx="16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30.2 x 10 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(removes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corre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5867280"/>
            <a:ext cx="152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arison to T2K and a Reactor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838320" cy="380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82572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77440" y="2590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T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8195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848720" y="1752120"/>
            <a:ext cx="0" cy="29718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1040" y="5181480"/>
            <a:ext cx="32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dwoo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Double Cho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934320" y="4952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848720" y="480060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120" y="495288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2K may not be l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048120" y="2971800"/>
            <a:ext cx="304560" cy="380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7120" y="579132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ot very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3440" y="5715000"/>
            <a:ext cx="38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rable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Very sensitive reactor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big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rot="5400000">
            <a:off x="1939680" y="1869840"/>
            <a:ext cx="4425840" cy="449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914400"/>
            <a:ext cx="8610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bining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ccelerato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experiments (sensitive 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2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eactor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nsitive to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Mass Or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rot="5400000">
            <a:off x="3665160" y="1744560"/>
            <a:ext cx="4937400" cy="4952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-10080" y="1752480"/>
            <a:ext cx="424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t to establish hierarc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er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f inverted next gene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ouble beta decay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an determine if the neutrino i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wn antip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measure CP vi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ed to remove hierarchy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ecause it contributes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pparent CP vio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6360" y="5715000"/>
            <a:ext cx="33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Will depend on value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bining NOνA and T2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5400000">
            <a:off x="2080800" y="1347480"/>
            <a:ext cx="4295880" cy="4343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705720" y="26668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Δ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.0030 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39760" y="5799240"/>
            <a:ext cx="455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improvement at high values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δ vs. sin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2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) Contours for Test points: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rmal  Mass order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891240" cy="3810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2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Mass Ordering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3200" y="5943600"/>
            <a:ext cx="34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limited sensitivity at 1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st and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cost (Far and near detectors, building, admin et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$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(including 57 M$ contingen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ved by Fermilab Program Advisory Committee: Stage 1 Approval, (April 200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oritized by NuSA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mmended by P5 for construction start in Fiscal Year 2008 (October 200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 Decision Zero (CD0) granted. Mission n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ed CD1 approval:  Range of Schedules and co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2 next end 2006(?): Final cost, schedule and TD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ed $10M in R&amp;D for generic oscillation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n Driver CD0 shelved at this stage. But R&amp;D can continu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native plans for Main Injector upgrade to 1 MW, maybe 1.2 M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ption:  Approval early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ing ready: June 2009. (Agreement with U. of Minnesot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ve kilotons: Early 20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ion: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US programme: Accelerators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iBooN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Fermilab boo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SND observation this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nergy data already pres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ciBo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K2K SciBar det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iniBooNE bea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energy 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ER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w energy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hall of NUMI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ing through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733560" cy="303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181400" y="5029200"/>
            <a:ext cx="4962600" cy="1563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V="1">
            <a:off x="4038480" y="2057400"/>
            <a:ext cx="990720" cy="9144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Accelerators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80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articipation in 280m near detector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ctor inside the UA1/NOMAD magnet for the near detector          and work on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K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icipation in Water Cerenkov, civil engineering and liquid argon (150 t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t  later stage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quid argon R&amp;D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whether scalable to tens of kilo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Double –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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c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 rot="5400000">
            <a:off x="2813400" y="-908640"/>
            <a:ext cx="3364200" cy="8686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719960" y="541008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SAG recommend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mended the first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3560" y="5181480"/>
            <a:ext cx="327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Potential for redu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extracting and identify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ing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ri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 second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3160" y="3048120"/>
            <a:ext cx="75960" cy="22096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ss hierarchy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gn of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35280" y="16765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3160" y="1676520"/>
            <a:ext cx="7621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0880" y="1676520"/>
            <a:ext cx="1522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0200" y="46483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3000" y="46483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0880" y="46483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0200" y="426708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426708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0880" y="426708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16560" y="46483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4648320"/>
            <a:ext cx="76176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02160" y="4648320"/>
            <a:ext cx="15264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1480" y="16765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64280" y="16765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02160" y="16765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205740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64280" y="205740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205740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360" y="4114800"/>
            <a:ext cx="609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69080" y="1523880"/>
            <a:ext cx="4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8680" y="1523880"/>
            <a:ext cx="533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5000" y="4495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58760" y="205704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58760" y="3581280"/>
            <a:ext cx="792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57600" y="297180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221680" y="23619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2320" y="266688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441936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7800" y="129528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12200" y="198108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12200" y="182844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87760" y="1676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49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65320" y="17668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 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5000" y="1066680"/>
            <a:ext cx="62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 Hierarchy                               Inverted 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020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cillations only tell us abou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F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 scale: Direct measurements or 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: Tritiu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: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ss 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 &l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2 e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g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00" y="419112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29600" y="39625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8088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80880"/>
            <a:ext cx="3049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0880"/>
            <a:ext cx="3049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9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049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20240" y="3049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Re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recommended a US experiment to get down to a sensitiv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~0.01.  Both Daya Bay and Braidwood had this pot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has stopp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raidw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encourag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ya B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encouraged participation i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ouble Choo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with lower scientific priority because of its lower re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does not go along with this but possibly the NSF w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ery Long baseline: New NuSAG ch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ele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baselines: Compar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300-2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lines: Fermilab or Brookhaven to new  Underground site at Henderson or Homes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detectors: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Liquid Ar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ater Cerenk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r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: covering several oscillation maxima at once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and physics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BNL/FNAL study currently being carried out on these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: Oct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Extra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ost break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4078440"/>
                <a:gridCol w="176976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M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 and D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and outfi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Additional 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ar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8229240" cy="457200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VC modu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assemb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8.78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 Scintill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and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0.309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-length shifting fi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7.43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, Trigger,D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3.41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in MINOS Surfac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7080" y="5562720"/>
            <a:ext cx="236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,00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85400" y="5562720"/>
            <a:ext cx="21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20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32120" y="16002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t in 75 mrad off-axis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3080" y="20574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Kaon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09880" y="2514600"/>
            <a:ext cx="6098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001000" cy="3240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352320" y="2438280"/>
            <a:ext cx="685800" cy="381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firmed by KAMLAND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actor antineutrinos to detector at Kami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589720" cy="4210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1828800" y="4267080"/>
            <a:ext cx="1295280" cy="763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640" y="38242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743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AM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10080" y="3276720"/>
            <a:ext cx="1905120" cy="5331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3640" y="6040440"/>
            <a:ext cx="55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KamLAND + Solar   Completely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4770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12080" y="48150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are neutrino masses so low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3178" r="0" b="0"/>
          <a:stretch/>
        </p:blipFill>
        <p:spPr>
          <a:xfrm>
            <a:off x="4267080" y="228600"/>
            <a:ext cx="4006800" cy="6400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048120" y="3657600"/>
            <a:ext cx="1752480" cy="1219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ther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1676520"/>
            <a:ext cx="144792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9000" y="457200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scinating 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562720"/>
            <a:ext cx="40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4 x 10-3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 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D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with light equivalent t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05480" y="3429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600" y="487692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ignal well sepa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5943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56560" y="59817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0           20          40          60         80      p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666880" y="365760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62720" y="2133720"/>
            <a:ext cx="380880" cy="19047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781320" y="2209680"/>
            <a:ext cx="381240" cy="228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’s needed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mass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P violation in the neutrino se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ummary of backg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143000"/>
          <a:ext cx="7772400" cy="41907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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361600" y="5791320"/>
            <a:ext cx="315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Efficiency for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ignal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8-fold degenera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-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ambiguity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Mass hierarchy two-fold degene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degeneracy: For a value of sin2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, say 0.92,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can be 33.5</a:t>
            </a:r>
            <a:r>
              <a:rPr b="0" lang="en-US" sz="2000" spc="-1" strike="noStrike" baseline="30000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or 5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89548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205080" cy="3581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76720" y="2438280"/>
            <a:ext cx="28191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measure of P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an yield a whole range of values of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easuring with 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’s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as well reduces the cor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67480" y="28195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114800"/>
            <a:ext cx="1295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429000"/>
            <a:ext cx="152280" cy="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5791320"/>
            <a:ext cx="79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ill most probably run first 3 years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n 3 more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also improve the complementarity with T2K if they ru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ad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47960" y="1981080"/>
            <a:ext cx="52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rticle Physics Projects Prioritization Panel (P5)  Jun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1044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915400" cy="275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0680" y="28954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ctober 2007 -&gt;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33520" y="2285640"/>
            <a:ext cx="12952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itial Tests Using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trusions from Existing Die (Smal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638680" y="990720"/>
            <a:ext cx="2819520" cy="2803320"/>
            <a:chOff x="5638680" y="990720"/>
            <a:chExt cx="2819520" cy="28033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5638680" y="990720"/>
              <a:ext cx="281952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389720" y="27309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48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11280" y="2032200"/>
              <a:ext cx="2372400" cy="1594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4" name="" descr=""/>
          <p:cNvPicPr/>
          <p:nvPr/>
        </p:nvPicPr>
        <p:blipFill>
          <a:blip r:embed="rId2"/>
          <a:srcRect l="0" t="8136" r="8309" b="0"/>
          <a:stretch/>
        </p:blipFill>
        <p:spPr>
          <a:xfrm>
            <a:off x="152280" y="3886200"/>
            <a:ext cx="5257800" cy="2820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057400" y="4343400"/>
            <a:ext cx="24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sured light y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3840" y="4038840"/>
            <a:ext cx="32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= 80 exp(-L/4.6)+10 exp(-L/500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5520" y="1417680"/>
            <a:ext cx="4043520" cy="1568520"/>
            <a:chOff x="155520" y="1417680"/>
            <a:chExt cx="4043520" cy="156852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155520" y="1417680"/>
              <a:ext cx="40435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856520" y="2206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18640" y="2077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8720" y="2519280"/>
              <a:ext cx="83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2480" y="1998720"/>
              <a:ext cx="0" cy="56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406480" y="47131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metry gives factor of 1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0440" y="498780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 pe goes to 23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22320" y="560232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lectivity gives factor of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5080" y="5888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3 pe goes to 27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3440" y="2895480"/>
            <a:ext cx="20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.87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6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i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057040" y="2590920"/>
            <a:ext cx="106668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2971800" y="2438280"/>
            <a:ext cx="1447920" cy="6098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3581280"/>
            <a:ext cx="4190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8560" y="61866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itanium diox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76160" y="47656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 p.e. at 15.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5181480"/>
            <a:ext cx="3808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has 64 (31-plane)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fill with scintillator and run during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Size planes built &amp; tested at Arg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267080" cy="29415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742080" cy="1944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3716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342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15360" y="3541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41400" y="1676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-cm exp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ion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327672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74200" y="3429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43440" y="2362320"/>
            <a:ext cx="30492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to understand the 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46840" cy="4692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477120" y="685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2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5 T totally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.4 T fidu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entral 2.5 x 3.25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914400"/>
            <a:ext cx="15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plan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6 T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 T 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30840" y="39625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uon c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1 m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1680" y="51814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arge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6000" y="5599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Veto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920" y="1828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.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21120" y="3733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4640" y="5562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676520" y="1523880"/>
            <a:ext cx="3657600" cy="1447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5181480"/>
            <a:ext cx="9907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124080"/>
            <a:ext cx="457200" cy="1981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276720" y="5791320"/>
            <a:ext cx="9144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886200" y="5257440"/>
            <a:ext cx="91440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952520" y="4648320"/>
            <a:ext cx="30492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ower containm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248520" y="3733920"/>
            <a:ext cx="30456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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4641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676160" y="182880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160" y="1905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28440" y="42670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440" y="43434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2280" y="91440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0920" y="9144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igh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5638680"/>
            <a:ext cx="4876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ar detecto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1460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613200" y="623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Site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990720"/>
            <a:ext cx="7632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219320" y="2232000"/>
            <a:ext cx="5943600" cy="4587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H="1">
            <a:off x="5105160" y="1523880"/>
            <a:ext cx="2514600" cy="2895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809880" y="1447920"/>
            <a:ext cx="3276720" cy="39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276720" y="1219320"/>
            <a:ext cx="3047760" cy="46479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1295280"/>
            <a:ext cx="457200" cy="4419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04400" y="3214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Times New Roman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3581280"/>
            <a:ext cx="76320" cy="7621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44792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129600" y="1558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llaboration consists of 142 physicists and engineers from 28 instit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onne, Athens, Caltech, College de France, Fermilab, Harvard, Indiana, ITEP, Michigan State, Minnesota-Twin Cities, Minnesota-Duluth, Northern Illinois, Ohio, Ohio State, Oxford, Rutherford, Rio de Janeiro, South Carolina, SMU, Stanford, Texas, Texas A&amp;M, Tufts, UCLA, Virginia, Washington, William and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ve Italian universities with about 20 senior physicists are actively discussing joining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ts main physics goal will be the study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→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oscillations at the atmospheric oscillation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rrelations in Oscillation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640" y="8380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M. Lind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7315200" cy="89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7315200" cy="276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4800600"/>
            <a:ext cx="86108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P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o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ield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of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f correlations between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CP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(sign of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CP viola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: Difference betwe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sci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accessible through Matter eff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9480" y="3276360"/>
            <a:ext cx="1143000" cy="2438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114440"/>
            <a:ext cx="2133720" cy="24382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nergy dependence of matt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vacuum and without CP vio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23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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= 1.27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(L/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be at maximum oscillation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at L = 800km    E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1.64 GeV,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at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L = 295km    E = 0.6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ing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mat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ffects, at the first oscillation maximu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mat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[1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(2E/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8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] 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= [12 GeV][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(2.7x10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)][2.8 gm.c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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]~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12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ends on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ter effects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gro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energy and therefore with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di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imes larger (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7%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at NO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1.6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 than at T2K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0.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83808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iven relatively high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f NUMI beam, decid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 NO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solution of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high in energy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keep L/E constant at 2.7 x 10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-3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far as possible, but remain in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t Ash River near Canadian border (L =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10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site. Above 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etector placed 14 mrad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2 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Off-axis of the Fermilab NUMI beam  (MI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850080"/>
            <a:ext cx="1066680" cy="7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31240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9625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719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4:45:39Z</dcterms:created>
  <dc:creator>Camilleri Leslie Loris</dc:creator>
  <dc:description/>
  <dc:language>en-US</dc:language>
  <cp:lastModifiedBy>llc</cp:lastModifiedBy>
  <dcterms:modified xsi:type="dcterms:W3CDTF">2006-10-03T19:52:20Z</dcterms:modified>
  <cp:revision>188</cp:revision>
  <dc:subject/>
  <dc:title>Cosmic calibration</dc:title>
</cp:coreProperties>
</file>